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12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4007-AC87-4E37-9CB5-D3691D5DB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6F89-0EC2-4D33-817D-B9FC1246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893E-F661-48B3-A2C1-6CFF0C9C7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5A47-5549-430E-8514-7F96BB502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2060-7916-437B-A044-3CDFF1C0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E9C0-CC40-4621-A3E8-5EA5E927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1C6F-0999-4DDF-B9EF-FE95A661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299E-2B93-450B-9628-6A584D54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81B2-AB86-48CA-9040-51FC54C5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919B-37AE-42A4-BA47-7C26B6CE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D6FF-9DA0-4A12-BCC6-09BE13B9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9513-8AC9-4225-AC1F-F4C95420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8313DA-ECE6-4921-BD32-59CF76DF2B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19160" y="2533680"/>
            <a:ext cx="9988560" cy="17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дебиторской задолженности - как элемент контроля ее формирования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2" name="Рисунок 5" descr="Логотип КСП прозрачный ну ладно.png"/>
          <p:cNvPicPr/>
          <p:nvPr/>
        </p:nvPicPr>
        <p:blipFill>
          <a:blip r:embed="rId2"/>
          <a:stretch/>
        </p:blipFill>
        <p:spPr>
          <a:xfrm>
            <a:off x="10547280" y="138240"/>
            <a:ext cx="1462320" cy="1463400"/>
          </a:xfrm>
          <a:prstGeom prst="rect">
            <a:avLst/>
          </a:prstGeom>
          <a:ln w="0">
            <a:noFill/>
          </a:ln>
        </p:spPr>
      </p:pic>
      <p:sp>
        <p:nvSpPr>
          <p:cNvPr id="43" name="TextBox 6"/>
          <p:cNvSpPr/>
          <p:nvPr/>
        </p:nvSpPr>
        <p:spPr>
          <a:xfrm>
            <a:off x="8383680" y="5410080"/>
            <a:ext cx="3808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 Авдеев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 председате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но-счетной палат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гоград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9"/>
          <p:cNvSpPr/>
          <p:nvPr/>
        </p:nvSpPr>
        <p:spPr>
          <a:xfrm>
            <a:off x="639720" y="331920"/>
            <a:ext cx="8985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ы негативно влияющие на работу с дебиторской задолженностью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2"/>
          <a:stretch/>
        </p:blipFill>
        <p:spPr>
          <a:xfrm>
            <a:off x="9742320" y="0"/>
            <a:ext cx="2449800" cy="1762200"/>
          </a:xfrm>
          <a:prstGeom prst="rect">
            <a:avLst/>
          </a:prstGeom>
          <a:ln w="0">
            <a:noFill/>
          </a:ln>
        </p:spPr>
      </p:pic>
      <p:pic>
        <p:nvPicPr>
          <p:cNvPr id="46" name="Схема 2" descr=""/>
          <p:cNvPicPr/>
          <p:nvPr/>
        </p:nvPicPr>
        <p:blipFill>
          <a:blip r:embed="rId3"/>
          <a:stretch/>
        </p:blipFill>
        <p:spPr>
          <a:xfrm>
            <a:off x="523800" y="1401840"/>
            <a:ext cx="10991880" cy="53038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9"/>
          <p:cNvSpPr/>
          <p:nvPr/>
        </p:nvSpPr>
        <p:spPr>
          <a:xfrm>
            <a:off x="301680" y="154080"/>
            <a:ext cx="10180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собираемости штрафов с 2020 года по 2022 год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69920" y="1017720"/>
          <a:ext cx="11896560" cy="5689440"/>
        </p:xfrm>
        <a:graphic>
          <a:graphicData uri="http://schemas.openxmlformats.org/drawingml/2006/table">
            <a:tbl>
              <a:tblPr/>
              <a:tblGrid>
                <a:gridCol w="1441440"/>
                <a:gridCol w="1439640"/>
                <a:gridCol w="1441800"/>
                <a:gridCol w="1623960"/>
                <a:gridCol w="1442880"/>
                <a:gridCol w="1623960"/>
                <a:gridCol w="1441440"/>
                <a:gridCol w="1441440"/>
              </a:tblGrid>
              <a:tr h="6242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числено штраф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лачено штраф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лг по штраф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ма (тыс. руб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ма (тыс. руб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ма (тыс. руб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654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8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4 53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3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 88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5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 647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25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4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7 16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8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 30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6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 86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125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6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 899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3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 959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2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 93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251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2 9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10 604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6 5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2 14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 3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8 45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</a:tbl>
          </a:graphicData>
        </a:graphic>
      </p:graphicFrame>
      <p:pic>
        <p:nvPicPr>
          <p:cNvPr id="49" name="Рисунок 2" descr=""/>
          <p:cNvPicPr/>
          <p:nvPr/>
        </p:nvPicPr>
        <p:blipFill>
          <a:blip r:embed="rId2"/>
          <a:stretch/>
        </p:blipFill>
        <p:spPr>
          <a:xfrm>
            <a:off x="10577520" y="0"/>
            <a:ext cx="1614600" cy="1211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7"/>
          <p:cNvSpPr/>
          <p:nvPr/>
        </p:nvSpPr>
        <p:spPr>
          <a:xfrm>
            <a:off x="141120" y="176040"/>
            <a:ext cx="9294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ка просроченной дебиторской задолженности комитета юстиции (млн. руб.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Диаграмма 3"/>
          <p:cNvGraphicFramePr/>
          <p:nvPr/>
        </p:nvGraphicFramePr>
        <p:xfrm>
          <a:off x="378000" y="1365120"/>
          <a:ext cx="10451880" cy="5364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2" name="Диаграмма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8000" y="1365120"/>
                    <a:ext cx="10451880" cy="53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Рисунок 2" descr=""/>
          <p:cNvPicPr/>
          <p:nvPr/>
        </p:nvPicPr>
        <p:blipFill>
          <a:blip r:embed="rId4"/>
          <a:stretch/>
        </p:blipFill>
        <p:spPr>
          <a:xfrm>
            <a:off x="9547200" y="34920"/>
            <a:ext cx="2644920" cy="17622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Прямоугольник: скругленные углы 4"/>
          <p:cNvGrpSpPr/>
          <p:nvPr/>
        </p:nvGrpSpPr>
        <p:grpSpPr>
          <a:xfrm>
            <a:off x="49320" y="158760"/>
            <a:ext cx="5559480" cy="2127240"/>
            <a:chOff x="49320" y="158760"/>
            <a:chExt cx="5559480" cy="2127240"/>
          </a:xfrm>
        </p:grpSpPr>
        <p:pic>
          <p:nvPicPr>
            <p:cNvPr id="55" name="Прямоугольник: скругленные углы 4" descr=""/>
            <p:cNvPicPr/>
            <p:nvPr/>
          </p:nvPicPr>
          <p:blipFill>
            <a:blip r:embed="rId2"/>
            <a:stretch/>
          </p:blipFill>
          <p:spPr>
            <a:xfrm>
              <a:off x="49320" y="158760"/>
              <a:ext cx="5559480" cy="21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206280" y="289080"/>
              <a:ext cx="5245200" cy="18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тсутствие упорядоченного информационного взаимодействия между комитетом юстиции, мировыми судьями и службой судебных приставов по обмену информацие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" name="Прямоугольник: скругленные углы 5"/>
          <p:cNvGrpSpPr/>
          <p:nvPr/>
        </p:nvGrpSpPr>
        <p:grpSpPr>
          <a:xfrm>
            <a:off x="109440" y="4363920"/>
            <a:ext cx="5559480" cy="1927440"/>
            <a:chOff x="109440" y="4363920"/>
            <a:chExt cx="5559480" cy="1927440"/>
          </a:xfrm>
        </p:grpSpPr>
        <p:pic>
          <p:nvPicPr>
            <p:cNvPr id="58" name="Прямоугольник: скругленные углы 5" descr=""/>
            <p:cNvPicPr/>
            <p:nvPr/>
          </p:nvPicPr>
          <p:blipFill>
            <a:blip r:embed="rId3"/>
            <a:stretch/>
          </p:blipFill>
          <p:spPr>
            <a:xfrm>
              <a:off x="109440" y="4363920"/>
              <a:ext cx="5559480" cy="19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255600" y="4486320"/>
              <a:ext cx="5265720" cy="16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бота по администрированию штрафов осуществлялась в «ручном режиме»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Прямоугольник: скругленные углы 6"/>
          <p:cNvGrpSpPr/>
          <p:nvPr/>
        </p:nvGrpSpPr>
        <p:grpSpPr>
          <a:xfrm>
            <a:off x="7205760" y="1689120"/>
            <a:ext cx="4998960" cy="2359080"/>
            <a:chOff x="7205760" y="1689120"/>
            <a:chExt cx="4998960" cy="2359080"/>
          </a:xfrm>
        </p:grpSpPr>
        <p:pic>
          <p:nvPicPr>
            <p:cNvPr id="61" name="Прямоугольник: скругленные углы 6" descr=""/>
            <p:cNvPicPr/>
            <p:nvPr/>
          </p:nvPicPr>
          <p:blipFill>
            <a:blip r:embed="rId4"/>
            <a:stretch/>
          </p:blipFill>
          <p:spPr>
            <a:xfrm>
              <a:off x="7205760" y="1689120"/>
              <a:ext cx="4998960" cy="23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7373880" y="1830240"/>
              <a:ext cx="4657680" cy="20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обходимость проведения работы по интеграции информационных систем, используемых мировыми судьями, службой судебных приставов и непосредственно комитетом, сведения из которых необходимы для надлежащего администрирования доходов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Стрелка: вправо 2"/>
          <p:cNvSpPr/>
          <p:nvPr/>
        </p:nvSpPr>
        <p:spPr>
          <a:xfrm rot="1416000">
            <a:off x="5573520" y="1315800"/>
            <a:ext cx="1726920" cy="81252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ed7d31"/>
          </a:solidFill>
          <a:ln w="12600">
            <a:solidFill>
              <a:srgbClr val="ae5a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Стрелка: вправо 9"/>
          <p:cNvSpPr/>
          <p:nvPr/>
        </p:nvSpPr>
        <p:spPr>
          <a:xfrm rot="19850400">
            <a:off x="5530680" y="3753000"/>
            <a:ext cx="1812960" cy="81252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ed7d31"/>
          </a:solidFill>
          <a:ln w="12600">
            <a:solidFill>
              <a:srgbClr val="ae5a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7" descr=""/>
          <p:cNvPicPr/>
          <p:nvPr/>
        </p:nvPicPr>
        <p:blipFill>
          <a:blip r:embed="rId5"/>
          <a:stretch/>
        </p:blipFill>
        <p:spPr>
          <a:xfrm>
            <a:off x="7956720" y="4487760"/>
            <a:ext cx="4066920" cy="22827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1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1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1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2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3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Прямоугольник: скругленные углы 4"/>
          <p:cNvGrpSpPr/>
          <p:nvPr/>
        </p:nvGrpSpPr>
        <p:grpSpPr>
          <a:xfrm>
            <a:off x="6035760" y="1384200"/>
            <a:ext cx="5565600" cy="2133720"/>
            <a:chOff x="6035760" y="1384200"/>
            <a:chExt cx="5565600" cy="2133720"/>
          </a:xfrm>
        </p:grpSpPr>
        <p:pic>
          <p:nvPicPr>
            <p:cNvPr id="67" name="Прямоугольник: скругленные углы 4" descr=""/>
            <p:cNvPicPr/>
            <p:nvPr/>
          </p:nvPicPr>
          <p:blipFill>
            <a:blip r:embed="rId2"/>
            <a:stretch/>
          </p:blipFill>
          <p:spPr>
            <a:xfrm>
              <a:off x="6035760" y="1384200"/>
              <a:ext cx="556560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194520" y="1514520"/>
              <a:ext cx="5244840" cy="18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снижение просроченной дебиторской задолженности почти на 180 млн. руб. произошло путём её списания с баланса как нереальной к взысканию, а также отнесения на забалансовый учёт как сомнительной, которая скорее всего также будет окончательно списан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Прямоугольник: скругленные углы 5"/>
          <p:cNvGrpSpPr/>
          <p:nvPr/>
        </p:nvGrpSpPr>
        <p:grpSpPr>
          <a:xfrm>
            <a:off x="6035760" y="4438800"/>
            <a:ext cx="5565600" cy="1925640"/>
            <a:chOff x="6035760" y="4438800"/>
            <a:chExt cx="5565600" cy="1925640"/>
          </a:xfrm>
        </p:grpSpPr>
        <p:pic>
          <p:nvPicPr>
            <p:cNvPr id="70" name="Прямоугольник: скругленные углы 5" descr=""/>
            <p:cNvPicPr/>
            <p:nvPr/>
          </p:nvPicPr>
          <p:blipFill>
            <a:blip r:embed="rId3"/>
            <a:stretch/>
          </p:blipFill>
          <p:spPr>
            <a:xfrm>
              <a:off x="6035760" y="4438800"/>
              <a:ext cx="5565600" cy="19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6184800" y="4556160"/>
              <a:ext cx="5264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бюджеты муниципальных образований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доходы не получил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2" name="Рисунок 12" descr=""/>
          <p:cNvPicPr/>
          <p:nvPr/>
        </p:nvPicPr>
        <p:blipFill>
          <a:blip r:embed="rId4"/>
          <a:stretch/>
        </p:blipFill>
        <p:spPr>
          <a:xfrm>
            <a:off x="727200" y="1901880"/>
            <a:ext cx="3027240" cy="3619440"/>
          </a:xfrm>
          <a:prstGeom prst="rect">
            <a:avLst/>
          </a:prstGeom>
          <a:ln w="0">
            <a:noFill/>
          </a:ln>
        </p:spPr>
      </p:pic>
      <p:sp>
        <p:nvSpPr>
          <p:cNvPr id="73" name="TextBox 7"/>
          <p:cNvSpPr/>
          <p:nvPr/>
        </p:nvSpPr>
        <p:spPr>
          <a:xfrm>
            <a:off x="1112760" y="176040"/>
            <a:ext cx="8541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ствия некачественного управления задолженностью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1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1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1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7"/>
          <p:cNvSpPr/>
          <p:nvPr/>
        </p:nvSpPr>
        <p:spPr>
          <a:xfrm>
            <a:off x="1112760" y="176040"/>
            <a:ext cx="1004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роченная дебиторская задолженность по налог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50840" y="995400"/>
          <a:ext cx="11812680" cy="5414760"/>
        </p:xfrm>
        <a:graphic>
          <a:graphicData uri="http://schemas.openxmlformats.org/drawingml/2006/table">
            <a:tbl>
              <a:tblPr/>
              <a:tblGrid>
                <a:gridCol w="3321000"/>
                <a:gridCol w="2584440"/>
                <a:gridCol w="2952720"/>
                <a:gridCol w="295452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>
                      <a:noFill/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1.01.20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1.01.20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1.01.20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70ad47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просроченная задолжен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>
                      <a:noFill/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778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158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644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</a:tr>
              <a:tr h="19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администрируемая  налоговой службой (млн. руб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>
                      <a:noFill/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4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91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991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администрируемая  налоговой службой, доля (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>
                      <a:noFill/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</a:tr>
            </a:tbl>
          </a:graphicData>
        </a:graphic>
      </p:graphicFrame>
    </p:spTree>
  </p:cSld>
  <p:transition spd="slow">
    <p:blinds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3"/>
          <p:cNvSpPr/>
          <p:nvPr/>
        </p:nvSpPr>
        <p:spPr>
          <a:xfrm>
            <a:off x="2225520" y="2476440"/>
            <a:ext cx="810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30T11:38:43Z</dcterms:created>
  <dc:creator>Самарцева Оксана Геннадьевна</dc:creator>
  <dc:description/>
  <dc:language>en-US</dc:language>
  <cp:lastModifiedBy>Самарцева Оксана Геннадьевна</cp:lastModifiedBy>
  <dcterms:modified xsi:type="dcterms:W3CDTF">2024-04-18T15:41:04Z</dcterms:modified>
  <cp:revision>288</cp:revision>
  <dc:subject/>
  <dc:title>Презентация PowerPoint</dc:title>
</cp:coreProperties>
</file>