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9FD-33E4-4DF9-9D66-89C0D53D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91A-7D81-41A3-9024-95A71B0D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9AB-8B2A-4282-A251-9A0C9A3D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9D6-D833-4135-86AF-A6C7DE85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71B-631D-4346-896F-3FC5162D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1FA-0AD4-4EEE-B273-50896803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865-00A9-489E-B825-D7E5A45E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CF8-9EF8-461A-B595-56864EE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379-F85F-4985-98D7-BEC79B2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362-DE7E-45DA-8924-623B902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3B1-C63F-4859-AEEB-27A464CF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4EB-8E6B-4C21-A684-D3EFE3A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C687-2FB2-407F-BB41-F01E04F9F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4400" y="0"/>
            <a:ext cx="121633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14400" y="0"/>
            <a:ext cx="121633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3"/>
          <a:stretch/>
        </p:blipFill>
        <p:spPr>
          <a:xfrm>
            <a:off x="14400" y="0"/>
            <a:ext cx="121633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4"/>
          <a:stretch/>
        </p:blipFill>
        <p:spPr>
          <a:xfrm>
            <a:off x="14400" y="0"/>
            <a:ext cx="121633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5"/>
          <a:stretch/>
        </p:blipFill>
        <p:spPr>
          <a:xfrm>
            <a:off x="14400" y="0"/>
            <a:ext cx="1216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2211480" y="1825560"/>
            <a:ext cx="7769160" cy="4351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2"/>
          <a:stretch/>
        </p:blipFill>
        <p:spPr>
          <a:xfrm>
            <a:off x="0" y="14400"/>
            <a:ext cx="12192120" cy="68292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3"/>
          <a:stretch/>
        </p:blipFill>
        <p:spPr>
          <a:xfrm>
            <a:off x="0" y="20520"/>
            <a:ext cx="12192120" cy="6816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4"/>
          <a:stretch/>
        </p:blipFill>
        <p:spPr>
          <a:xfrm>
            <a:off x="0" y="20520"/>
            <a:ext cx="1219212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2224080" y="1825560"/>
            <a:ext cx="7743960" cy="4351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2"/>
          <a:stretch/>
        </p:blipFill>
        <p:spPr>
          <a:xfrm>
            <a:off x="0" y="4680"/>
            <a:ext cx="121921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2209680" y="1825560"/>
            <a:ext cx="7772400" cy="4351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2"/>
          <a:stretch/>
        </p:blipFill>
        <p:spPr>
          <a:xfrm>
            <a:off x="0" y="15840"/>
            <a:ext cx="121921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2190600" y="1825560"/>
            <a:ext cx="7810560" cy="43513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0" y="33480"/>
            <a:ext cx="1219212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Объект 3" descr=""/>
          <p:cNvPicPr/>
          <p:nvPr/>
        </p:nvPicPr>
        <p:blipFill>
          <a:blip r:embed="rId1"/>
          <a:stretch/>
        </p:blipFill>
        <p:spPr>
          <a:xfrm>
            <a:off x="2219400" y="1825560"/>
            <a:ext cx="7753320" cy="4351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2"/>
          <a:stretch/>
        </p:blipFill>
        <p:spPr>
          <a:xfrm>
            <a:off x="0" y="7920"/>
            <a:ext cx="12192120" cy="6842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0" y="4680"/>
            <a:ext cx="121921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2232000" y="1825560"/>
            <a:ext cx="7728120" cy="4351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4680" y="0"/>
            <a:ext cx="1218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2230560" y="1825560"/>
            <a:ext cx="7731000" cy="43513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2"/>
          <a:stretch/>
        </p:blipFill>
        <p:spPr>
          <a:xfrm>
            <a:off x="4680" y="0"/>
            <a:ext cx="121824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3"/>
          <a:stretch/>
        </p:blipFill>
        <p:spPr>
          <a:xfrm>
            <a:off x="0" y="25560"/>
            <a:ext cx="12192120" cy="68068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4"/>
          <a:stretch/>
        </p:blipFill>
        <p:spPr>
          <a:xfrm>
            <a:off x="4680" y="0"/>
            <a:ext cx="121824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" descr=""/>
          <p:cNvPicPr/>
          <p:nvPr/>
        </p:nvPicPr>
        <p:blipFill>
          <a:blip r:embed="rId5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6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7"/>
          <a:stretch/>
        </p:blipFill>
        <p:spPr>
          <a:xfrm>
            <a:off x="0" y="12600"/>
            <a:ext cx="12192120" cy="68328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8"/>
          <a:stretch/>
        </p:blipFill>
        <p:spPr>
          <a:xfrm>
            <a:off x="0" y="12600"/>
            <a:ext cx="12192120" cy="6832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9"/>
          <a:stretch/>
        </p:blipFill>
        <p:spPr>
          <a:xfrm>
            <a:off x="0" y="27000"/>
            <a:ext cx="12192120" cy="6804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"/>
          <p:cNvPicPr/>
          <p:nvPr/>
        </p:nvPicPr>
        <p:blipFill>
          <a:blip r:embed="rId10"/>
          <a:stretch/>
        </p:blipFill>
        <p:spPr>
          <a:xfrm>
            <a:off x="0" y="27000"/>
            <a:ext cx="121921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2198520" y="1825560"/>
            <a:ext cx="7794720" cy="4351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"/>
          <p:cNvPicPr/>
          <p:nvPr/>
        </p:nvPicPr>
        <p:blipFill>
          <a:blip r:embed="rId2"/>
          <a:stretch/>
        </p:blipFill>
        <p:spPr>
          <a:xfrm>
            <a:off x="0" y="25560"/>
            <a:ext cx="12192120" cy="6806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" descr=""/>
          <p:cNvPicPr/>
          <p:nvPr/>
        </p:nvPicPr>
        <p:blipFill>
          <a:blip r:embed="rId3"/>
          <a:stretch/>
        </p:blipFill>
        <p:spPr>
          <a:xfrm>
            <a:off x="0" y="14400"/>
            <a:ext cx="12192120" cy="68292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"/>
          <p:cNvPicPr/>
          <p:nvPr/>
        </p:nvPicPr>
        <p:blipFill>
          <a:blip r:embed="rId4"/>
          <a:stretch/>
        </p:blipFill>
        <p:spPr>
          <a:xfrm>
            <a:off x="0" y="14400"/>
            <a:ext cx="121921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2216160" y="1825560"/>
            <a:ext cx="7759800" cy="4351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0" y="9360"/>
            <a:ext cx="12192120" cy="6839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3"/>
          <a:stretch/>
        </p:blipFill>
        <p:spPr>
          <a:xfrm>
            <a:off x="3240" y="0"/>
            <a:ext cx="121856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4"/>
          <a:stretch/>
        </p:blipFill>
        <p:spPr>
          <a:xfrm>
            <a:off x="3240" y="0"/>
            <a:ext cx="1218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2208240" y="1825560"/>
            <a:ext cx="7775640" cy="4351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0" y="17640"/>
            <a:ext cx="12192120" cy="6822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3"/>
          <a:stretch/>
        </p:blipFill>
        <p:spPr>
          <a:xfrm>
            <a:off x="0" y="11160"/>
            <a:ext cx="12192120" cy="6835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4"/>
          <a:stretch/>
        </p:blipFill>
        <p:spPr>
          <a:xfrm>
            <a:off x="0" y="11160"/>
            <a:ext cx="121921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2232000" y="1825560"/>
            <a:ext cx="7728120" cy="4351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2"/>
          <a:stretch/>
        </p:blipFill>
        <p:spPr>
          <a:xfrm>
            <a:off x="4680" y="0"/>
            <a:ext cx="1218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2239920" y="1825560"/>
            <a:ext cx="7712280" cy="43513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19080" y="0"/>
            <a:ext cx="121539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3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4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2222640" y="1825560"/>
            <a:ext cx="774684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2"/>
          <a:stretch/>
        </p:blipFill>
        <p:spPr>
          <a:xfrm>
            <a:off x="0" y="4680"/>
            <a:ext cx="12192120" cy="6848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3"/>
          <a:stretch/>
        </p:blipFill>
        <p:spPr>
          <a:xfrm>
            <a:off x="4680" y="0"/>
            <a:ext cx="1218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2225520" y="1825560"/>
            <a:ext cx="7740720" cy="4351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4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5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6"/>
          <a:stretch/>
        </p:blipFill>
        <p:spPr>
          <a:xfrm>
            <a:off x="11160" y="0"/>
            <a:ext cx="121698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7"/>
          <a:stretch/>
        </p:blipFill>
        <p:spPr>
          <a:xfrm>
            <a:off x="11160" y="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2197080" y="1825560"/>
            <a:ext cx="7797960" cy="4351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0" y="27000"/>
            <a:ext cx="121921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1"/>
          <a:stretch/>
        </p:blipFill>
        <p:spPr>
          <a:xfrm>
            <a:off x="2224080" y="1825560"/>
            <a:ext cx="7743960" cy="4351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0" y="3240"/>
            <a:ext cx="12192120" cy="68515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22T09:48:53Z</dcterms:created>
  <dc:creator>Константин Тимощук</dc:creator>
  <dc:description/>
  <dc:language>en-US</dc:language>
  <cp:lastModifiedBy>Константин Тимощук</cp:lastModifiedBy>
  <dcterms:modified xsi:type="dcterms:W3CDTF">2024-04-22T11:36:15Z</dcterms:modified>
  <cp:revision>2</cp:revision>
  <dc:subject/>
  <dc:title>Презентация PowerPoint</dc:title>
</cp:coreProperties>
</file>