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2193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A073-6B41-49B1-A6C2-A9C917C471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3E2B-09AD-479C-B28D-9AA7371F64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DBC4-D29E-4199-9189-C528707AF0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9904-1FFC-4D9A-85D3-C312B27960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1648-BE0C-402C-B118-3E139E9627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04EA-3834-42BE-A30B-7522171877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0BF7-40F6-45C2-BC58-861D9DED74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8C91-D564-4C28-8D23-C55FD51FA3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A957-7F4F-4C7C-BC6A-C367905917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2407-1E03-455C-A609-D31936A8FB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942D-9228-4414-8200-768D477B38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617E-7805-4885-A261-E65BF135D2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94C0-95E6-4E9E-B12C-5805C8FC9D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0E9F-652D-41B1-A1C0-9C339CDC44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919-EFA7-4372-A1D7-8883BA73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7DF-FA79-451F-BD4B-8C8914F2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076-7C40-459D-A7D3-CB11ED8C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425-691F-4D2C-87B6-BC1CF7FA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11A-4973-4A98-8AE2-1FF1CA0D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540-7DC2-46EB-88DD-A60F9AF0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19B-E9C3-4DE3-A9A0-0C14C50A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1E8-5517-491A-9A5F-8709A876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677-4341-4883-BEEB-901D549D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CDA-6757-417F-8531-A5333AE3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97A-60BE-4FF4-ABE0-D7396275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5CA-8969-4E6D-B45E-A21C8560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285D-132E-4724-8443-CCFA111762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common1\Desktop\Дизайн\Презентации\3.jpg"/>
          <p:cNvPicPr/>
          <p:nvPr/>
        </p:nvPicPr>
        <p:blipFill>
          <a:blip r:embed="rId3"/>
          <a:stretch/>
        </p:blipFill>
        <p:spPr>
          <a:xfrm>
            <a:off x="795240" y="325440"/>
            <a:ext cx="10588680" cy="120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common1\Desktop\Дизайн\Презентации\2.jpg"/>
          <p:cNvPicPr/>
          <p:nvPr/>
        </p:nvPicPr>
        <p:blipFill>
          <a:blip r:embed="rId4"/>
          <a:stretch/>
        </p:blipFill>
        <p:spPr>
          <a:xfrm>
            <a:off x="787320" y="547560"/>
            <a:ext cx="10590120" cy="8193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"/>
          <p:cNvPicPr/>
          <p:nvPr/>
        </p:nvPicPr>
        <p:blipFill>
          <a:blip r:embed="rId5"/>
          <a:stretch/>
        </p:blipFill>
        <p:spPr>
          <a:xfrm>
            <a:off x="11690280" y="6510240"/>
            <a:ext cx="519120" cy="366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9.wmf"/><Relationship Id="rId7" Type="http://schemas.openxmlformats.org/officeDocument/2006/relationships/package" Target="../embeddings/oleObject3.xlsx"/><Relationship Id="rId8" Type="http://schemas.openxmlformats.org/officeDocument/2006/relationships/image" Target="../media/image10.wmf"/><Relationship Id="rId9" Type="http://schemas.openxmlformats.org/officeDocument/2006/relationships/package" Target="../embeddings/oleObject4.xlsx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0" y="2538000"/>
            <a:ext cx="1219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ебиторской задолженностью по дох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лгоград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bject 3"/>
          <p:cNvSpPr/>
          <p:nvPr/>
        </p:nvSpPr>
        <p:spPr>
          <a:xfrm>
            <a:off x="5556240" y="0"/>
            <a:ext cx="1079640" cy="107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5" descr=""/>
          <p:cNvPicPr/>
          <p:nvPr/>
        </p:nvPicPr>
        <p:blipFill>
          <a:blip r:embed="rId2"/>
          <a:srcRect l="0" t="0" r="1496" b="9766"/>
          <a:stretch/>
        </p:blipFill>
        <p:spPr>
          <a:xfrm>
            <a:off x="41400" y="5850000"/>
            <a:ext cx="12109320" cy="9572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6"/>
          <p:cNvSpPr/>
          <p:nvPr/>
        </p:nvSpPr>
        <p:spPr>
          <a:xfrm>
            <a:off x="0" y="4513320"/>
            <a:ext cx="1219212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ждеев Александр Владимирови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меститель Губернатора Волгоградской области –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 комитета финансов Волгоград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24" descr=""/>
          <p:cNvPicPr/>
          <p:nvPr/>
        </p:nvPicPr>
        <p:blipFill>
          <a:blip r:embed="rId1"/>
          <a:srcRect l="0" t="0" r="1496" b="9766"/>
          <a:stretch/>
        </p:blipFill>
        <p:spPr>
          <a:xfrm>
            <a:off x="-131760" y="5925960"/>
            <a:ext cx="12109320" cy="957600"/>
          </a:xfrm>
          <a:prstGeom prst="rect">
            <a:avLst/>
          </a:prstGeom>
          <a:ln w="0">
            <a:noFill/>
          </a:ln>
        </p:spPr>
      </p:pic>
      <p:sp>
        <p:nvSpPr>
          <p:cNvPr id="155" name="object 3"/>
          <p:cNvSpPr/>
          <p:nvPr/>
        </p:nvSpPr>
        <p:spPr>
          <a:xfrm>
            <a:off x="295200" y="50760"/>
            <a:ext cx="72072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11674440" y="640548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891720"/>
            <a:ext cx="12192120" cy="28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становление Правительства РФ от 29.12.2007 № 995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О порядке осуществления федеральными органами государственной власти (государственными органами), органами управления государственными внебюджетными фондами Российской Федерации и (или) находящимися в их ведении казенными учреждениями, а также государственными корпорациями, публично-правовыми компаниями и Центральным банком Российской Федерации бюджетных полномочий главных администраторов доходов бюджетов бюджетной системы Российской Федераци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Заголовок 2"/>
          <p:cNvSpPr/>
          <p:nvPr/>
        </p:nvSpPr>
        <p:spPr>
          <a:xfrm>
            <a:off x="0" y="4241880"/>
            <a:ext cx="121921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каз Минфина России от 18.11.2022 № 172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общих требований к регламенту реализации полномочий администратора доходов бюджета по взысканию дебиторской задолженности по платежам в бюджет, пеням и штрафам по ним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24" descr=""/>
          <p:cNvPicPr/>
          <p:nvPr/>
        </p:nvPicPr>
        <p:blipFill>
          <a:blip r:embed="rId1"/>
          <a:srcRect l="0" t="0" r="1496" b="9766"/>
          <a:stretch/>
        </p:blipFill>
        <p:spPr>
          <a:xfrm>
            <a:off x="-131760" y="5925960"/>
            <a:ext cx="12109320" cy="957600"/>
          </a:xfrm>
          <a:prstGeom prst="rect">
            <a:avLst/>
          </a:prstGeom>
          <a:ln w="0">
            <a:noFill/>
          </a:ln>
        </p:spPr>
      </p:pic>
      <p:sp>
        <p:nvSpPr>
          <p:cNvPr id="160" name="object 3"/>
          <p:cNvSpPr/>
          <p:nvPr/>
        </p:nvSpPr>
        <p:spPr>
          <a:xfrm>
            <a:off x="295200" y="50760"/>
            <a:ext cx="72072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11674440" y="640548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891720"/>
            <a:ext cx="12192120" cy="17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становление Правительства Российской Федерации от 12.12.2023 № 212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соглашениях, которые предусматривают меры по социально-экономическому развитию и оздоровлению государственных финансов субъекта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Заголовок 2"/>
          <p:cNvSpPr/>
          <p:nvPr/>
        </p:nvSpPr>
        <p:spPr>
          <a:xfrm>
            <a:off x="0" y="4622760"/>
            <a:ext cx="121921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становление Администрации Волгоградской области от 27.03.2024 № 20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лана мероприятий по взысканию дебиторской задолже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латежам в областной бюджет, пеням и штрафам по ни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Заголовок 2"/>
          <p:cNvSpPr/>
          <p:nvPr/>
        </p:nvSpPr>
        <p:spPr>
          <a:xfrm>
            <a:off x="0" y="2778120"/>
            <a:ext cx="121921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обязательств субъекта Российской Федерации, получающего в 2024 году дотацию на выравнивание бюджетной обеспеченности субъектов Российской Федерации, дополнен пунктом, предусматривающим утверждение плана («дорожной карты») по взысканию дебиторской задолженности по платежам в бюджет субъекта Российской Федерации, пеням и штрафам по н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Штриховая стрелка вправо 8"/>
          <p:cNvSpPr/>
          <p:nvPr/>
        </p:nvSpPr>
        <p:spPr>
          <a:xfrm rot="5400000">
            <a:off x="5716080" y="4253040"/>
            <a:ext cx="830520" cy="502920"/>
          </a:xfrm>
          <a:custGeom>
            <a:avLst/>
            <a:gdLst/>
            <a:ahLst/>
            <a:rect l="l" t="t" r="r" b="b"/>
            <a:pathLst>
              <a:path w="830263" h="503238">
                <a:moveTo>
                  <a:pt x="0" y="125810"/>
                </a:moveTo>
                <a:lnTo>
                  <a:pt x="15726" y="125810"/>
                </a:lnTo>
                <a:lnTo>
                  <a:pt x="15726" y="377429"/>
                </a:lnTo>
                <a:lnTo>
                  <a:pt x="0" y="377429"/>
                </a:lnTo>
                <a:lnTo>
                  <a:pt x="0" y="125810"/>
                </a:lnTo>
                <a:close/>
                <a:moveTo>
                  <a:pt x="31452" y="125810"/>
                </a:moveTo>
                <a:lnTo>
                  <a:pt x="62905" y="125810"/>
                </a:lnTo>
                <a:lnTo>
                  <a:pt x="62905" y="377429"/>
                </a:lnTo>
                <a:lnTo>
                  <a:pt x="31452" y="377429"/>
                </a:lnTo>
                <a:lnTo>
                  <a:pt x="31452" y="125810"/>
                </a:lnTo>
                <a:close/>
                <a:moveTo>
                  <a:pt x="78631" y="125810"/>
                </a:moveTo>
                <a:lnTo>
                  <a:pt x="578644" y="125810"/>
                </a:lnTo>
                <a:lnTo>
                  <a:pt x="578644" y="0"/>
                </a:lnTo>
                <a:lnTo>
                  <a:pt x="830263" y="251619"/>
                </a:lnTo>
                <a:lnTo>
                  <a:pt x="578644" y="503238"/>
                </a:lnTo>
                <a:lnTo>
                  <a:pt x="578644" y="377429"/>
                </a:lnTo>
                <a:lnTo>
                  <a:pt x="78631" y="377429"/>
                </a:lnTo>
                <a:lnTo>
                  <a:pt x="78631" y="125810"/>
                </a:lnTo>
                <a:close/>
              </a:path>
            </a:pathLst>
          </a:cu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24" descr=""/>
          <p:cNvPicPr/>
          <p:nvPr/>
        </p:nvPicPr>
        <p:blipFill>
          <a:blip r:embed="rId1"/>
          <a:srcRect l="0" t="0" r="1496" b="9766"/>
          <a:stretch/>
        </p:blipFill>
        <p:spPr>
          <a:xfrm>
            <a:off x="-131760" y="5925960"/>
            <a:ext cx="12109320" cy="957600"/>
          </a:xfrm>
          <a:prstGeom prst="rect">
            <a:avLst/>
          </a:prstGeom>
          <a:ln w="0">
            <a:noFill/>
          </a:ln>
        </p:spPr>
      </p:pic>
      <p:sp>
        <p:nvSpPr>
          <p:cNvPr id="167" name="object 3"/>
          <p:cNvSpPr/>
          <p:nvPr/>
        </p:nvSpPr>
        <p:spPr>
          <a:xfrm>
            <a:off x="295200" y="50760"/>
            <a:ext cx="72072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11674440" y="640548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Заголовок 2"/>
          <p:cNvSpPr/>
          <p:nvPr/>
        </p:nvSpPr>
        <p:spPr>
          <a:xfrm>
            <a:off x="0" y="1515960"/>
            <a:ext cx="121921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каз комитета финансов Волгоградской области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 10.04.2024 № 15н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форм и сроков представления отчетов по реализации Плана мероприятий по взысканию дебиторской задолженности по платежам в областной бюджет, пеням и штрафам по ни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24" descr=""/>
          <p:cNvPicPr/>
          <p:nvPr/>
        </p:nvPicPr>
        <p:blipFill>
          <a:blip r:embed="rId1"/>
          <a:srcRect l="0" t="0" r="1496" b="9766"/>
          <a:stretch/>
        </p:blipFill>
        <p:spPr>
          <a:xfrm>
            <a:off x="0" y="5897520"/>
            <a:ext cx="12109320" cy="9572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4280" y="66240"/>
            <a:ext cx="1089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просроченной дебиторской задолженности по доходам консолидированного бюджета Волгоградской области (без налоговой задолженност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bject 3"/>
          <p:cNvSpPr/>
          <p:nvPr/>
        </p:nvSpPr>
        <p:spPr>
          <a:xfrm>
            <a:off x="295200" y="50760"/>
            <a:ext cx="72072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1669760" y="640548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Диаграмма 6"/>
          <p:cNvGraphicFramePr/>
          <p:nvPr/>
        </p:nvGraphicFramePr>
        <p:xfrm>
          <a:off x="549360" y="1025640"/>
          <a:ext cx="10650600" cy="509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Диаграмма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9360" y="1025640"/>
                    <a:ext cx="10650600" cy="50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Box 2"/>
          <p:cNvSpPr/>
          <p:nvPr/>
        </p:nvSpPr>
        <p:spPr>
          <a:xfrm rot="559200">
            <a:off x="7015320" y="1452600"/>
            <a:ext cx="19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01,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 руб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7"/>
          <p:cNvSpPr/>
          <p:nvPr/>
        </p:nvSpPr>
        <p:spPr>
          <a:xfrm rot="508800">
            <a:off x="4801680" y="3125880"/>
            <a:ext cx="18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7,5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 руб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8"/>
          <p:cNvSpPr/>
          <p:nvPr/>
        </p:nvSpPr>
        <p:spPr>
          <a:xfrm rot="458400">
            <a:off x="4800600" y="406836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3,7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 руб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2838600" y="301608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н. руб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2913120" y="470052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руб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7520040" y="418320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н. руб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7520040" y="492912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руб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24" descr=""/>
          <p:cNvPicPr/>
          <p:nvPr/>
        </p:nvPicPr>
        <p:blipFill>
          <a:blip r:embed="rId1"/>
          <a:srcRect l="0" t="0" r="1496" b="9766"/>
          <a:stretch/>
        </p:blipFill>
        <p:spPr>
          <a:xfrm>
            <a:off x="-131760" y="5925960"/>
            <a:ext cx="12109320" cy="957600"/>
          </a:xfrm>
          <a:prstGeom prst="rect">
            <a:avLst/>
          </a:prstGeom>
          <a:ln w="0">
            <a:noFill/>
          </a:ln>
        </p:spPr>
      </p:pic>
      <p:sp>
        <p:nvSpPr>
          <p:cNvPr id="184" name="object 3"/>
          <p:cNvSpPr/>
          <p:nvPr/>
        </p:nvSpPr>
        <p:spPr>
          <a:xfrm>
            <a:off x="295200" y="50760"/>
            <a:ext cx="72072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11674440" y="640548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74760" y="1211040"/>
            <a:ext cx="11299680" cy="41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единой информационной цифровой системы администрирования доходов бюджетов на базе имеющихся государственных информационных систем с обеспечением однократности ввода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4" descr=""/>
          <p:cNvPicPr/>
          <p:nvPr/>
        </p:nvPicPr>
        <p:blipFill>
          <a:blip r:embed="rId1"/>
          <a:srcRect l="0" t="0" r="1496" b="9766"/>
          <a:stretch/>
        </p:blipFill>
        <p:spPr>
          <a:xfrm>
            <a:off x="0" y="5897520"/>
            <a:ext cx="12109320" cy="957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4280" y="66240"/>
            <a:ext cx="1089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в бюджетной сфере на 01 января 2014 г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3"/>
          <p:cNvSpPr/>
          <p:nvPr/>
        </p:nvSpPr>
        <p:spPr>
          <a:xfrm>
            <a:off x="295200" y="50760"/>
            <a:ext cx="72072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1844360" y="6405480"/>
            <a:ext cx="2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Объект 1"/>
          <p:cNvSpPr/>
          <p:nvPr/>
        </p:nvSpPr>
        <p:spPr>
          <a:xfrm>
            <a:off x="609480" y="1300320"/>
            <a:ext cx="1097280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747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стного бюджета достиг своего максимума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14%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рушение требований БК РФ)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3,3 млрд руб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диторская задолженнос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олидированного бюджета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9 млрд рубл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ного бюджета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6 млрд рубл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 обязательных расходов не включен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юджет, финансовый разрыв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6 млрд рубл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1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ашение кредиторской задолженнос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1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социальных гарантий населению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1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платы труда работникам бюджетной сферы в соответствии с Указами Президента РФ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14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ю выпадающих доходов ресурсоснабжающих организац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4" descr=""/>
          <p:cNvPicPr/>
          <p:nvPr/>
        </p:nvPicPr>
        <p:blipFill>
          <a:blip r:embed="rId1"/>
          <a:srcRect l="0" t="0" r="1496" b="9766"/>
          <a:stretch/>
        </p:blipFill>
        <p:spPr>
          <a:xfrm>
            <a:off x="0" y="5897520"/>
            <a:ext cx="12109320" cy="957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4280" y="66240"/>
            <a:ext cx="1089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облемные вопросы 2014 го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bject 3"/>
          <p:cNvSpPr/>
          <p:nvPr/>
        </p:nvSpPr>
        <p:spPr>
          <a:xfrm>
            <a:off x="295200" y="50760"/>
            <a:ext cx="72072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11844360" y="6405480"/>
            <a:ext cx="2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Объект 2"/>
          <p:cNvSpPr/>
          <p:nvPr/>
        </p:nvSpPr>
        <p:spPr>
          <a:xfrm>
            <a:off x="365040" y="917640"/>
            <a:ext cx="1147932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едность в детские сады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тей от 3 до 7 лет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01 января 2014г. очередность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305 мест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рийное состояние действующих объектов здравоохранени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тавание от графика выполнения подготовительных работ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азработке проектной документации по объектам инфраструктуры ЧМ по футболу 2018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щенность и не благоустроенность дворов и улиц, аварийное состояние детских площадок, отсутствие озеленения, освещени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ершенные объекты строительст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олгостро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олженность по контрактам 2012-2013 гг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заключенным муниципальными образованиями на выполнение работ по строительству внутрипоселковых газопроводов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амках программы газификации Волгоградской области по схеме синхронизации с ОАО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пром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1 млн рублей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1 января 2014 года числилось более 10 тысяч обманутых дольщико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24" descr=""/>
          <p:cNvPicPr/>
          <p:nvPr/>
        </p:nvPicPr>
        <p:blipFill>
          <a:blip r:embed="rId1"/>
          <a:srcRect l="0" t="0" r="1496" b="9766"/>
          <a:stretch/>
        </p:blipFill>
        <p:spPr>
          <a:xfrm>
            <a:off x="0" y="5897520"/>
            <a:ext cx="12109320" cy="957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4280" y="66240"/>
            <a:ext cx="1089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GulimChe"/>
              </a:rPr>
              <a:t>Динамика основных макроэкономических показателей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GulimChe"/>
              </a:rPr>
              <a:t>в 2013 и 2023 годах, млн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bject 3"/>
          <p:cNvSpPr/>
          <p:nvPr/>
        </p:nvSpPr>
        <p:spPr>
          <a:xfrm>
            <a:off x="295200" y="50760"/>
            <a:ext cx="72072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11844360" y="6405480"/>
            <a:ext cx="2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Диаграмма 4"/>
          <p:cNvGraphicFramePr/>
          <p:nvPr/>
        </p:nvGraphicFramePr>
        <p:xfrm>
          <a:off x="1542960" y="932040"/>
          <a:ext cx="9023400" cy="491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8" name="Диаграмма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2960" y="932040"/>
                    <a:ext cx="902340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Стрелка вправо с вырезом 6"/>
          <p:cNvSpPr/>
          <p:nvPr/>
        </p:nvSpPr>
        <p:spPr>
          <a:xfrm rot="19578000">
            <a:off x="1563840" y="1671120"/>
            <a:ext cx="2361960" cy="792360"/>
          </a:xfrm>
          <a:custGeom>
            <a:avLst/>
            <a:gdLst>
              <a:gd name="textAreaLeft" fmla="*/ 198000 w 2361960"/>
              <a:gd name="textAreaRight" fmla="*/ 2163960 w 236196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978" y="5400"/>
                </a:lnTo>
                <a:lnTo>
                  <a:pt x="17978" y="0"/>
                </a:lnTo>
                <a:lnTo>
                  <a:pt x="21600" y="10800"/>
                </a:lnTo>
                <a:lnTo>
                  <a:pt x="17978" y="21600"/>
                </a:lnTo>
                <a:lnTo>
                  <a:pt x="17978" y="16200"/>
                </a:lnTo>
                <a:lnTo>
                  <a:pt x="0" y="16200"/>
                </a:lnTo>
                <a:lnTo>
                  <a:pt x="18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7c80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692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"/>
          <p:cNvSpPr/>
          <p:nvPr/>
        </p:nvSpPr>
        <p:spPr>
          <a:xfrm rot="19551600">
            <a:off x="1740600" y="154764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4,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право с вырезом 8"/>
          <p:cNvSpPr/>
          <p:nvPr/>
        </p:nvSpPr>
        <p:spPr>
          <a:xfrm rot="19578000">
            <a:off x="6970320" y="2892240"/>
            <a:ext cx="2362320" cy="792000"/>
          </a:xfrm>
          <a:custGeom>
            <a:avLst/>
            <a:gdLst>
              <a:gd name="textAreaLeft" fmla="*/ 198000 w 2362320"/>
              <a:gd name="textAreaRight" fmla="*/ 2164320 w 236232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978" y="5400"/>
                </a:lnTo>
                <a:lnTo>
                  <a:pt x="17978" y="0"/>
                </a:lnTo>
                <a:lnTo>
                  <a:pt x="21600" y="10800"/>
                </a:lnTo>
                <a:lnTo>
                  <a:pt x="17978" y="21600"/>
                </a:lnTo>
                <a:lnTo>
                  <a:pt x="17978" y="16200"/>
                </a:lnTo>
                <a:lnTo>
                  <a:pt x="0" y="16200"/>
                </a:lnTo>
                <a:lnTo>
                  <a:pt x="18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7c80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50,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9"/>
          <p:cNvSpPr/>
          <p:nvPr/>
        </p:nvSpPr>
        <p:spPr>
          <a:xfrm rot="19551600">
            <a:off x="7189560" y="27018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7,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4" descr=""/>
          <p:cNvPicPr/>
          <p:nvPr/>
        </p:nvPicPr>
        <p:blipFill>
          <a:blip r:embed="rId1"/>
          <a:srcRect l="0" t="0" r="1496" b="9766"/>
          <a:stretch/>
        </p:blipFill>
        <p:spPr>
          <a:xfrm>
            <a:off x="0" y="5897520"/>
            <a:ext cx="12109320" cy="957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4280" y="66240"/>
            <a:ext cx="1089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GulimChe"/>
              </a:rPr>
              <a:t>Поступление налоговых и неналоговых доходов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GulimChe"/>
              </a:rPr>
              <a:t>с территории Волгоградской области в 2013 – 2023 гг., млрд. 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bject 3"/>
          <p:cNvSpPr/>
          <p:nvPr/>
        </p:nvSpPr>
        <p:spPr>
          <a:xfrm>
            <a:off x="295200" y="50760"/>
            <a:ext cx="72072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11844360" y="6405480"/>
            <a:ext cx="2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Диаграмма 5"/>
          <p:cNvGraphicFramePr/>
          <p:nvPr/>
        </p:nvGraphicFramePr>
        <p:xfrm>
          <a:off x="965160" y="833400"/>
          <a:ext cx="4954680" cy="284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Диаграмма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5160" y="833400"/>
                    <a:ext cx="495468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Диаграмма 14"/>
          <p:cNvGraphicFramePr/>
          <p:nvPr/>
        </p:nvGraphicFramePr>
        <p:xfrm>
          <a:off x="965160" y="3571920"/>
          <a:ext cx="4954680" cy="2841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0" name="Диаграмма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65160" y="3571920"/>
                    <a:ext cx="495468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Диаграмма 15"/>
          <p:cNvGraphicFramePr/>
          <p:nvPr/>
        </p:nvGraphicFramePr>
        <p:xfrm>
          <a:off x="6512040" y="833400"/>
          <a:ext cx="4954320" cy="28400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2" name="Диаграмма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2040" y="833400"/>
                    <a:ext cx="49543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Диаграмма 16"/>
          <p:cNvGraphicFramePr/>
          <p:nvPr/>
        </p:nvGraphicFramePr>
        <p:xfrm>
          <a:off x="6611760" y="3567240"/>
          <a:ext cx="4954680" cy="2840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24" name="Диаграмма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11760" y="3567240"/>
                    <a:ext cx="495468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24" descr=""/>
          <p:cNvPicPr/>
          <p:nvPr/>
        </p:nvPicPr>
        <p:blipFill>
          <a:blip r:embed="rId1"/>
          <a:srcRect l="0" t="0" r="1496" b="9766"/>
          <a:stretch/>
        </p:blipFill>
        <p:spPr>
          <a:xfrm>
            <a:off x="0" y="5897520"/>
            <a:ext cx="12109320" cy="9572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4280" y="66240"/>
            <a:ext cx="1089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GulimChe"/>
              </a:rPr>
              <a:t>Социально-экономическое развитие Волгоградской обла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bject 3"/>
          <p:cNvSpPr/>
          <p:nvPr/>
        </p:nvSpPr>
        <p:spPr>
          <a:xfrm>
            <a:off x="295200" y="50760"/>
            <a:ext cx="72072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11844360" y="6405480"/>
            <a:ext cx="2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95200" y="901800"/>
          <a:ext cx="11526840" cy="5045040"/>
        </p:xfrm>
        <a:graphic>
          <a:graphicData uri="http://schemas.openxmlformats.org/drawingml/2006/table">
            <a:tbl>
              <a:tblPr/>
              <a:tblGrid>
                <a:gridCol w="2814840"/>
                <a:gridCol w="792000"/>
                <a:gridCol w="792360"/>
                <a:gridCol w="792000"/>
                <a:gridCol w="792000"/>
                <a:gridCol w="792360"/>
                <a:gridCol w="792000"/>
                <a:gridCol w="792360"/>
                <a:gridCol w="790560"/>
                <a:gridCol w="792000"/>
                <a:gridCol w="792360"/>
                <a:gridCol w="792000"/>
              </a:tblGrid>
              <a:tr h="36036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новные параметры исполнения консолидирован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50760" rIns="50760" tIns="26280" bIns="26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c62e0"/>
                          </a:solidFill>
                          <a:latin typeface="Times New Roman"/>
                          <a:ea typeface="Times New Roman"/>
                        </a:rPr>
                        <a:t>Показатель, млрд.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0360"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c62e0"/>
                          </a:solidFill>
                          <a:latin typeface="Times New Roman"/>
                          <a:ea typeface="Times New Roman"/>
                        </a:rPr>
                        <a:t>ДОХОДЫ, 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1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2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3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65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81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98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0360"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c62e0"/>
                          </a:solidFill>
                          <a:latin typeface="Times New Roman"/>
                          <a:ea typeface="Times New Roman"/>
                        </a:rPr>
                        <a:t>Налоговые и неналогов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8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4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1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2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1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8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26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44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0360"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c62e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2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9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5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9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6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4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3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0360"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c62e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2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4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9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29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5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66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79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0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0360"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c62e0"/>
                          </a:solidFill>
                          <a:latin typeface="Times New Roman"/>
                          <a:ea typeface="Times New Roman"/>
                        </a:rPr>
                        <a:t>Дефицит/Профици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1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8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7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6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3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2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036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новные параметры исполнения област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50760" rIns="50760" tIns="26280" bIns="26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c62e0"/>
                          </a:solidFill>
                          <a:latin typeface="Times New Roman"/>
                          <a:ea typeface="Times New Roman"/>
                        </a:rPr>
                        <a:t>Показатель, млрд.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d64b9"/>
                          </a:solidFill>
                          <a:latin typeface="Times New Roman"/>
                          <a:ea typeface="Times New Roman"/>
                        </a:rPr>
                        <a:t>20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0360"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c62e0"/>
                          </a:solidFill>
                          <a:latin typeface="Times New Roman"/>
                          <a:ea typeface="Times New Roman"/>
                        </a:rPr>
                        <a:t>ДОХОДЫ, 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0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5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5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9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1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31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44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7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7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0360"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c62e0"/>
                          </a:solidFill>
                          <a:latin typeface="Times New Roman"/>
                          <a:ea typeface="Times New Roman"/>
                        </a:rPr>
                        <a:t>Налоговые и неналогов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7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4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7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1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0360"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c62e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3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5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9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7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6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5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0360"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c62e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6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5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6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8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35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45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75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0360"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c62e0"/>
                          </a:solidFill>
                          <a:latin typeface="Times New Roman"/>
                          <a:ea typeface="Times New Roman"/>
                        </a:rPr>
                        <a:t>Дефицит/Профици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8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6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4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0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30360"/>
                          <a:tab algn="l" pos="585000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ru-RU" sz="13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4" descr=""/>
          <p:cNvPicPr/>
          <p:nvPr/>
        </p:nvPicPr>
        <p:blipFill>
          <a:blip r:embed="rId1"/>
          <a:srcRect l="0" t="0" r="1496" b="9766"/>
          <a:stretch/>
        </p:blipFill>
        <p:spPr>
          <a:xfrm>
            <a:off x="0" y="5897520"/>
            <a:ext cx="12109320" cy="957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4280" y="66240"/>
            <a:ext cx="1089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Calibri"/>
              </a:rPr>
              <a:t>Динамика государственного долга Волгоградской области за 2013-2023 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bject 3"/>
          <p:cNvSpPr/>
          <p:nvPr/>
        </p:nvSpPr>
        <p:spPr>
          <a:xfrm>
            <a:off x="295200" y="50760"/>
            <a:ext cx="72072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1844360" y="6405480"/>
            <a:ext cx="2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60360" y="960480"/>
          <a:ext cx="11484000" cy="3587760"/>
        </p:xfrm>
        <a:graphic>
          <a:graphicData uri="http://schemas.openxmlformats.org/drawingml/2006/table">
            <a:tbl>
              <a:tblPr/>
              <a:tblGrid>
                <a:gridCol w="431640"/>
                <a:gridCol w="1944720"/>
                <a:gridCol w="827280"/>
                <a:gridCol w="828720"/>
                <a:gridCol w="826920"/>
                <a:gridCol w="828720"/>
                <a:gridCol w="828720"/>
                <a:gridCol w="826920"/>
                <a:gridCol w="828720"/>
                <a:gridCol w="827280"/>
                <a:gridCol w="828720"/>
                <a:gridCol w="826920"/>
                <a:gridCol w="828720"/>
              </a:tblGrid>
              <a:tr h="487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 2013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 2014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 2015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  2016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 2017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 2018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 2020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ые ценные бум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0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5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9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7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3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0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5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кредиты из федераль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5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2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12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45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4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34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27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27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40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1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 77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3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87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ы кредитных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7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9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99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89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4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1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5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5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0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69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3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антии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4920">
                <a:tc gridSpan="2"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59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65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 80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40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35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09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 02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27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 09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7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77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92280">
                <a:tc gridSpan="2">
                  <a:txBody>
                    <a:bodyPr lIns="50760" rIns="50760" tIns="26280" bIns="26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долга к доходам без учета безвозмездный поступ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grpSp>
        <p:nvGrpSpPr>
          <p:cNvPr id="135" name="Rectangle 20"/>
          <p:cNvGrpSpPr/>
          <p:nvPr/>
        </p:nvGrpSpPr>
        <p:grpSpPr>
          <a:xfrm>
            <a:off x="2066760" y="4584600"/>
            <a:ext cx="7699680" cy="371520"/>
            <a:chOff x="2066760" y="4584600"/>
            <a:chExt cx="7699680" cy="371520"/>
          </a:xfrm>
        </p:grpSpPr>
        <p:pic>
          <p:nvPicPr>
            <p:cNvPr id="136" name="Rectangle 20" descr=""/>
            <p:cNvPicPr/>
            <p:nvPr/>
          </p:nvPicPr>
          <p:blipFill>
            <a:blip r:embed="rId3"/>
            <a:stretch/>
          </p:blipFill>
          <p:spPr>
            <a:xfrm>
              <a:off x="2066760" y="4584600"/>
              <a:ext cx="76996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079720" y="4600800"/>
              <a:ext cx="766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ru-RU" sz="16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ДОЛГОВАЯ НАГРУЗКА ВОЛГОГРАДСКОЙ ОБЛАСТИ В 2014 – 2034 гг.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Прямоугольник 7"/>
          <p:cNvSpPr/>
          <p:nvPr/>
        </p:nvSpPr>
        <p:spPr>
          <a:xfrm>
            <a:off x="2300400" y="4983120"/>
            <a:ext cx="13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01.01.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2308320" y="536256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77,0</a:t>
            </a:r>
            <a:r>
              <a:rPr b="1" lang="en-US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9"/>
          <p:cNvSpPr/>
          <p:nvPr/>
        </p:nvSpPr>
        <p:spPr>
          <a:xfrm>
            <a:off x="5241960" y="4989600"/>
            <a:ext cx="13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01.01.202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0"/>
          <p:cNvSpPr/>
          <p:nvPr/>
        </p:nvSpPr>
        <p:spPr>
          <a:xfrm>
            <a:off x="5194440" y="53974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47,9</a:t>
            </a:r>
            <a:r>
              <a:rPr b="1" lang="en-US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11"/>
          <p:cNvSpPr/>
          <p:nvPr/>
        </p:nvSpPr>
        <p:spPr>
          <a:xfrm>
            <a:off x="8442360" y="4951440"/>
            <a:ext cx="126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01.01.203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 боле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12"/>
          <p:cNvSpPr/>
          <p:nvPr/>
        </p:nvSpPr>
        <p:spPr>
          <a:xfrm>
            <a:off x="8354880" y="53532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7</a:t>
            </a:r>
            <a:r>
              <a:rPr b="1" lang="ru-RU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,0</a:t>
            </a:r>
            <a:r>
              <a:rPr b="1" lang="en-US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24" descr=""/>
          <p:cNvPicPr/>
          <p:nvPr/>
        </p:nvPicPr>
        <p:blipFill>
          <a:blip r:embed="rId1"/>
          <a:srcRect l="0" t="0" r="1496" b="9766"/>
          <a:stretch/>
        </p:blipFill>
        <p:spPr>
          <a:xfrm>
            <a:off x="0" y="5897520"/>
            <a:ext cx="12109320" cy="9572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4280" y="66240"/>
            <a:ext cx="1089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действующих правовых актов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иведение в соответствие с требованиями законодательст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bject 3"/>
          <p:cNvSpPr/>
          <p:nvPr/>
        </p:nvSpPr>
        <p:spPr>
          <a:xfrm>
            <a:off x="295200" y="50760"/>
            <a:ext cx="72072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11844360" y="6405480"/>
            <a:ext cx="2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757080" y="1359000"/>
            <a:ext cx="10572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постоянно действующей комиссии по поступлению и выбытию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роведения инвентаризации активов и обязательств, а также анализа дебиторской задолжен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действий при досудебном взыскании дебиторской задолжен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ыскания дебиторской задолженности в судебном порядке и порядок действия в рамках исполнительного производств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ринятия решений о признании безнадежной к взысканию задолженности по платежам в бюджет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отнесения дебиторской задолженности к сомнительн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работы с сомнительной задолженностью и списания ее с забалансового счета 04 «Сомнительная задолженность» или восстановления на балансовом уче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24" descr=""/>
          <p:cNvPicPr/>
          <p:nvPr/>
        </p:nvPicPr>
        <p:blipFill>
          <a:blip r:embed="rId1"/>
          <a:srcRect l="0" t="0" r="1496" b="9766"/>
          <a:stretch/>
        </p:blipFill>
        <p:spPr>
          <a:xfrm>
            <a:off x="-131760" y="5925960"/>
            <a:ext cx="12109320" cy="957600"/>
          </a:xfrm>
          <a:prstGeom prst="rect">
            <a:avLst/>
          </a:prstGeom>
          <a:ln w="0">
            <a:noFill/>
          </a:ln>
        </p:spPr>
      </p:pic>
      <p:sp>
        <p:nvSpPr>
          <p:cNvPr id="150" name="object 3"/>
          <p:cNvSpPr/>
          <p:nvPr/>
        </p:nvSpPr>
        <p:spPr>
          <a:xfrm>
            <a:off x="295200" y="50760"/>
            <a:ext cx="72072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11674440" y="640548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892080"/>
            <a:ext cx="12192120" cy="24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становление Правительства Волгоградской области от 09.04.2013 № 153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существления органами государственной власти Волгоградской области, органами управления территориальными государственными внебюджетными фондами и (или) находящимися в их ведении казенными учреждениями бюджетных полномочий главных администраторов доходов бюджетов бюджетной системы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Заголовок 2"/>
          <p:cNvSpPr/>
          <p:nvPr/>
        </p:nvSpPr>
        <p:spPr>
          <a:xfrm>
            <a:off x="0" y="3441600"/>
            <a:ext cx="1219212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дополнен Положением об установлении администраторами доход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ного бюджета регламента реализации полномочий по взыска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иторской задолженности по платежам в бюджет, пеням и штрафам по н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постановление Администрации Волгоградской области от 25.10.2023 № 713-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06T11:03:07Z</dcterms:created>
  <dc:creator>Галактионова Ирина Владимировна</dc:creator>
  <dc:description/>
  <dc:language>en-US</dc:language>
  <cp:lastModifiedBy>Сычёва Любовь Викторовна</cp:lastModifiedBy>
  <cp:lastPrinted>2024-04-23T14:17:27Z</cp:lastPrinted>
  <dcterms:modified xsi:type="dcterms:W3CDTF">2024-04-23T14:37:32Z</dcterms:modified>
  <cp:revision>1302</cp:revision>
  <dc:subject/>
  <dc:title>Сельское, лесное хозяйство, охота, рыболовство  и рыбоводство</dc:title>
</cp:coreProperties>
</file>